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E1B-649C-4772-971F-CDA9D1B9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5AC-A4B3-49FF-9005-FDED1D9C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24D-FAC7-4B3A-BFA8-AB687E4A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229-2AF4-44E1-964B-CD9BD638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F37-4C3B-489D-8DEF-F923841B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389-01CF-4300-98D1-123A0599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3D2-7F91-461A-B5BD-4942D661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49C-AD92-4482-AED5-8C051461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F6A-715F-4A40-8D38-F70C830B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EB7-FBC2-4110-A05F-AA5A353E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CD4-5C95-4ACB-9F92-59FA35AE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0D8-D6E1-4464-B045-19786DBC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8F2F-9703-4CE2-9FD8-C63924F3E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730200">
            <a:off x="2626920" y="2997000"/>
            <a:ext cx="374328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565360"/>
            <a:ext cx="29509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250560" y="2637000"/>
            <a:ext cx="3027240" cy="504720"/>
          </a:xfrm>
          <a:prstGeom prst="leftArrow">
            <a:avLst>
              <a:gd name="adj1" fmla="val 63676"/>
              <a:gd name="adj2" fmla="val 191432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lioramento dei traspo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8131200">
            <a:off x="-468720" y="4436640"/>
            <a:ext cx="4676760" cy="528840"/>
          </a:xfrm>
          <a:prstGeom prst="leftArrow">
            <a:avLst>
              <a:gd name="adj1" fmla="val 63676"/>
              <a:gd name="adj2" fmla="val 282253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lioramento delle vie di comun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3720" y="3120840"/>
            <a:ext cx="2033640" cy="241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3141720"/>
            <a:ext cx="5032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551840" y="1599840"/>
            <a:ext cx="1162800" cy="101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5560" y="2786760"/>
            <a:ext cx="2611080" cy="7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5661000"/>
            <a:ext cx="1224000" cy="936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5589720"/>
            <a:ext cx="1224000" cy="93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i di v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6360" y="3213000"/>
            <a:ext cx="1187280" cy="93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Mer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549360"/>
            <a:ext cx="1296720" cy="107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pers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5240" y="866160"/>
            <a:ext cx="294624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9640" y="404640"/>
            <a:ext cx="1405080" cy="1149480"/>
          </a:xfrm>
          <a:prstGeom prst="flowChart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t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ultur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32Z</dcterms:created>
  <dc:creator>PC01</dc:creator>
  <dc:description/>
  <dc:language>en-US</dc:language>
  <cp:lastModifiedBy>PC01</cp:lastModifiedBy>
  <dcterms:modified xsi:type="dcterms:W3CDTF">2016-12-05T08:50:05Z</dcterms:modified>
  <cp:revision>7</cp:revision>
  <dc:subject/>
  <dc:title>Diapositiva 1</dc:title>
</cp:coreProperties>
</file>